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4AC-E123-4B4C-9882-9BCF16C8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74C-F531-4D87-B66C-6DCBFE86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DCE-27F2-46C5-B941-08755ED6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39E-B189-480B-BDFC-AD4ABF5C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DBC-2B21-46BD-ABEB-0E15BF44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1C9-DDD9-4DD1-A0C3-736182D0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391-6D33-46EB-BBA7-35EE8F7F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A53-F9FD-4E8D-AD75-8737380C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67B-E4BB-462E-B337-6E47A09D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167-C64D-4324-AC81-B6B83F9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D1E-FDF5-4479-9F48-C134A09D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673-1C39-4E89-8387-D426EFEF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D7F0-1127-44E6-9C50-CF55B0AC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75960" y="476280"/>
            <a:ext cx="936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peuvent-elles jouer à des 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saliss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3320" y="533520"/>
            <a:ext cx="702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Seulement si elles portent de vi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vê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8360" y="247680"/>
            <a:ext cx="91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ont-elles des corvées à f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97960" y="95400"/>
            <a:ext cx="765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doivent passer le balai et ran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leurs aff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655560" y="5867280"/>
            <a:ext cx="105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doivent-elles obéir aux règ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2560" y="1085760"/>
            <a:ext cx="63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C’est une chose qu’elles doi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apprendre, certain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49080" y="304920"/>
            <a:ext cx="62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mangent-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leurs croûtes de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0"/>
            <a:ext cx="52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les donnent plutôt au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canards du co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89200" y="0"/>
            <a:ext cx="69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Est-ce qu’il y a un légume que 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princesses préfè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96280" y="5943600"/>
            <a:ext cx="78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aiment surtout des légumes v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1800" y="5257800"/>
            <a:ext cx="840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Maman, les princesses portent-elles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bottes de randoné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918720" y="380880"/>
            <a:ext cx="108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aiment-elles les boissons pétill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Elles préfèrent une limonade bien rafraîchiss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54280" y="9540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Quand les princesses rient, font-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assez de bru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55760" y="95400"/>
            <a:ext cx="58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Oui, même si elles sont bien élevées et po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1960" y="380880"/>
            <a:ext cx="849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ronflent-elles quand 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dorment, la n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65240" y="171360"/>
            <a:ext cx="649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Si elles ont compté assez de moutons, bien sûr que 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98640" y="4514760"/>
            <a:ext cx="768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Handtooled BT"/>
              </a:rPr>
              <a:t>-Maman, les princesses sont-elles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Handtooled BT"/>
              </a:rPr>
              <a:t>peu comme mo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461160" y="5715000"/>
            <a:ext cx="9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Pour le savoir, tu dois regarder dans le miroi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-Oui, quand elles vont se prom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2362320"/>
            <a:ext cx="716292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0800000">
            <a:off x="762120" y="2437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…</a:t>
            </a: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Si ton coeur est heureux, c’est qu’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oudyHandtooled BT"/>
              </a:rPr>
              <a:t>princesse l’hab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280" y="5791320"/>
            <a:ext cx="90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roulent-elles à vélo, parfo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7000" y="7632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Tu parles! Elles adorent ç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710280" y="533520"/>
            <a:ext cx="86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peuvent-elles grimper 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arbres de temps en tem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472428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</a:t>
            </a:r>
            <a:r>
              <a:rPr b="1" i="1" lang="en-US" sz="4000" spc="-1" strike="noStrike">
                <a:solidFill>
                  <a:srgbClr val="000000"/>
                </a:solidFill>
                <a:latin typeface="GoudyHandtooled BT"/>
              </a:rPr>
              <a:t>N,est-ce pas le meilleur moyen d’être dans le v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840600" y="5715000"/>
            <a:ext cx="104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Handtooled BT"/>
              </a:rPr>
              <a:t>-Les princesses aiment-elles marcher sous la plu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46520" y="6095880"/>
            <a:ext cx="73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oudyHandtooled BT"/>
              </a:rPr>
              <a:t>-Oui, et sauter dans les flaques auss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0:14Z</dcterms:created>
  <dc:creator>CVJH-LAB</dc:creator>
  <dc:description/>
  <dc:language>en-US</dc:language>
  <cp:lastModifiedBy>nield411</cp:lastModifiedBy>
  <dcterms:modified xsi:type="dcterms:W3CDTF">2008-02-26T21:35:09Z</dcterms:modified>
  <cp:revision>12</cp:revision>
  <dc:subject/>
  <dc:title>Slide 1</dc:title>
</cp:coreProperties>
</file>